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341A-A0D7-43D1-83F9-C69A8D7AD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2096-0747-4C42-8B3A-F9E56ED4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DC1B-E664-4257-8101-DB309490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2EBE-3CDB-4629-B0B5-F972CC4D5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E9F3-3634-40BE-939E-71B30DB6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6D4B-302A-4354-BFA0-F616F404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8D17-EA0D-4C7C-BC33-8B25D722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3D7B-7B29-472D-86E7-3872AB77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E649-9162-4194-A2E0-A6A33D35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D189-5FF4-4726-8006-A208610B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9F5C-8760-483E-ACCE-8DCD1B0C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F136-8A33-4370-96BF-C4CCBA53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87E8F9-B8EA-47B2-B97F-1B5F41F1B6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BDAA9F-8EE8-4BE2-B467-14C661EA4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2120" y="685800"/>
          <a:ext cx="7467480" cy="4656240"/>
        </p:xfrm>
        <a:graphic>
          <a:graphicData uri="http://schemas.openxmlformats.org/drawingml/2006/table">
            <a:tbl>
              <a:tblPr/>
              <a:tblGrid>
                <a:gridCol w="1493640"/>
                <a:gridCol w="1494000"/>
                <a:gridCol w="1492200"/>
                <a:gridCol w="1493640"/>
                <a:gridCol w="1494000"/>
              </a:tblGrid>
              <a:tr h="124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p Ta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ottom Ta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p Ta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Rep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4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ttom Ta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Rep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oth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oth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2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oth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oth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lton’s Model of the At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 chemical elements are made of ato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 the atoms of an element are identical in their m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 atoms of different elements have different m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 atoms only combine in small, whole number ratios such as 1:1, 1:2, 2:3 and so 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) atoms can be neither created nor destroy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omson’s Model of the At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thing that Dalton said an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are made up of a positively charged matter that surrounds “electron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ons carry a negative char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2971800" y="3962520"/>
            <a:ext cx="383544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6:25:01Z</dcterms:created>
  <dc:creator>BTSD</dc:creator>
  <dc:description/>
  <dc:language>en-US</dc:language>
  <cp:lastModifiedBy>BTSD</cp:lastModifiedBy>
  <dcterms:modified xsi:type="dcterms:W3CDTF">2008-11-19T14:28:45Z</dcterms:modified>
  <cp:revision>2</cp:revision>
  <dc:subject/>
  <dc:title>Slide 1</dc:title>
</cp:coreProperties>
</file>